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984E3-FAB7-4936-86C5-EB09B5577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00EC6-EEDA-460A-954A-1418C283C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54A68-2C1F-47D2-9EC8-CB42CCF0F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4118D-611F-463D-A3F4-298A70857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6763D-132F-4009-8338-CB35BF3ED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01CCF-E74C-4B7B-8187-FBCC1365B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1390F-4108-4E7F-9AD3-59A352561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1B26D-2034-4576-BD69-BFD3E695E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6F6E5-B0E4-4015-8DBC-2EA7235B2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6584A-2AD2-4804-92CF-911BA3955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012C5-CA17-427F-92DD-10D6C12C3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4CA20-B17D-425C-82BB-77901538F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8250-81C1-4DC2-B30D-04495059E53F}"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 and abstract writ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7000920" y="109440"/>
            <a:ext cx="2093760" cy="1481400"/>
          </a:xfrm>
          <a:prstGeom prst="rect">
            <a:avLst/>
          </a:prstGeom>
          <a:ln w="0">
            <a:noFill/>
          </a:ln>
        </p:spPr>
      </p:pic>
      <p:grpSp>
        <p:nvGrpSpPr>
          <p:cNvPr id="44" name="Group 4"/>
          <p:cNvGrpSpPr/>
          <p:nvPr/>
        </p:nvGrpSpPr>
        <p:grpSpPr>
          <a:xfrm>
            <a:off x="155520" y="6170760"/>
            <a:ext cx="1606680" cy="528480"/>
            <a:chOff x="155520" y="6170760"/>
            <a:chExt cx="1606680" cy="528480"/>
          </a:xfrm>
        </p:grpSpPr>
        <p:pic>
          <p:nvPicPr>
            <p:cNvPr id="45" name="Picture 5" descr="http://research.ncl.ac.uk/media/sites/researchwebsites/rescapmed/EUlogo.jpg"/>
            <p:cNvPicPr/>
            <p:nvPr/>
          </p:nvPicPr>
          <p:blipFill>
            <a:blip r:embed="rId2"/>
            <a:stretch/>
          </p:blipFill>
          <p:spPr>
            <a:xfrm>
              <a:off x="155520" y="6170760"/>
              <a:ext cx="811440" cy="528480"/>
            </a:xfrm>
            <a:prstGeom prst="rect">
              <a:avLst/>
            </a:prstGeom>
            <a:ln w="0">
              <a:noFill/>
            </a:ln>
          </p:spPr>
        </p:pic>
        <p:pic>
          <p:nvPicPr>
            <p:cNvPr id="46" name="Picture 6" descr="http://research.ncl.ac.uk/media/sites/researchwebsites/rescapmed/FP7logo2.jpg"/>
            <p:cNvPicPr/>
            <p:nvPr/>
          </p:nvPicPr>
          <p:blipFill>
            <a:blip r:embed="rId3"/>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eamlessly blend the elements of the text into one coherent para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 only relevant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a clear and concise writing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ke objectives stan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repetition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ntion novel method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ly present most important result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s: just the major implications; relate back to your purpose and 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rce you to summarise the purpose, scope, argument and originality of your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y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r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move or shorten unnecessary words/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abbreviations, acrony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fine unfamiliar ter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diocre abstrac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like a table of con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behaviour of editors is discussed. What should be covered by an abstract is considered. The importance of the abstract is described. Dictionary definitions of “abstract” are quoted. At the conclusion a revised abstract is pres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Mediocre abstracts – improved exampl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bstract is of utmost importance, for it is read by 10 to 500 times more people than hear the presentation or read the entire article. It should not be a mere recital of the subjects covered, replete with such expressions as “is discussed” and “Is described.” It should be a condensation and concentration of the essential qualities of the pap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Abstracts for qualitative research</a:t>
            </a:r>
            <a:br>
              <a:rPr sz="4000"/>
            </a:br>
            <a:r>
              <a:rPr b="0" lang="en-IE" sz="2400" spc="-1" strike="noStrike">
                <a:solidFill>
                  <a:srgbClr val="000000"/>
                </a:solidFill>
                <a:latin typeface="Calibri"/>
              </a:rPr>
              <a:t>two examples (one structured, one unstructured)</a:t>
            </a:r>
            <a:endParaRPr b="0" lang="en-US" sz="2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www.globalizationandhealth.com/content/7/1/17/abstrac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onlinelibrary.wiley.com/doi/10.1111/maq.12005/abstract</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
          <p:cNvPicPr/>
          <p:nvPr/>
        </p:nvPicPr>
        <p:blipFill>
          <a:blip r:embed="rId2"/>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4" descr=""/>
          <p:cNvPicPr/>
          <p:nvPr/>
        </p:nvPicPr>
        <p:blipFill>
          <a:blip r:embed="rId2"/>
          <a:stretch/>
        </p:blipFill>
        <p:spPr>
          <a:xfrm>
            <a:off x="250920" y="293760"/>
            <a:ext cx="889308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veys clearly and concisely what the paper is ab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hould indicate narrow focus of the pap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hould be unambiguous in plain Englis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hat do you most want to conve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challenge to current thinking?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new methodolog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an include the population, study design and intervention and/or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 question may be a way to summarise purpo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bstrac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 brief description of a larger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with an abstract for a research centred journal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ually scientific abstracts but lay abstracts for a wider aud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lways read the instructions for authors when writing abstra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 reader decide whether to read text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ummarises the findings of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s scholars find your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Qualities of an abstrac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or more well-developed para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rt  (100-300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nds a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s all major elements of the larger text (in sa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No new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ucture of an abs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opic/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BUT social science journals rarely ask for structured abstracts, even if the same principles a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inish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ke a br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over your paper and identify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to two sentenc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ckground/research ques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clusions/recommend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nect the ideas with appropriate trans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dd and remove text a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vise, edit and Proof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or literature reviews/critical essays</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roblem/Topic investig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Your conclusions based on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 for review if no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0:13:38Z</dcterms:created>
  <dc:creator>Kathleen Bennett</dc:creator>
  <dc:description/>
  <dc:language>en-US</dc:language>
  <cp:lastModifiedBy>Licenced User</cp:lastModifiedBy>
  <dcterms:modified xsi:type="dcterms:W3CDTF">2014-09-18T15:34:39Z</dcterms:modified>
  <cp:revision>22</cp:revision>
  <dc:subject/>
  <dc:title>Title and abstract writing</dc:title>
</cp:coreProperties>
</file>